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ECE-8AA5-4221-90BA-6FEF6158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5CD-9451-4072-B4D0-076BE82D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407-E828-41C9-ACB2-BDAA550F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0D3-7C00-484A-9072-26E3E5B5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BA9-82FE-4683-BC8E-74B1DDE1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B15-6F39-469D-97C1-41BA95F4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0C7-88AB-46E7-83A3-7CB27EA9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6CC-0C91-433E-9691-5F8707B3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032-F145-41A0-843F-EA21910F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A82-83BC-4B96-9B87-162D69A5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245-D532-41A1-BA1C-570B5091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268-380E-47E8-8D9A-6645793B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DE9C-A661-4206-82F5-6E179662C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5 Ten Pánov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en Pánov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eň svätý sobot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rás nadzmesk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čas radostn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ám Stvoriteľ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 ňom žehná nás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a v duši rozlieva sa radosť,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jas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bot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mätný, vzácny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ticho z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Boží hl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dáva nádej, viery pl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chlebom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ýti nás Pán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oko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ináša spásy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ktorú patrí Bohu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ten vždy znova zjav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 večnou láskou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mil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brán rajských kr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ceste k ve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Boží je dňom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prídeš v sláv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ád znova za všetk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u ti vz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9:02:20Z</dcterms:modified>
  <cp:revision>22</cp:revision>
  <dc:subject/>
  <dc:title>Je veľký náš Pán, on slávy je Kráľ Nech do všetkých strán  spev vrúcnych znie chvál.</dc:title>
</cp:coreProperties>
</file>